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3C61-405C-4BA9-99A3-28AD6EF43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04C2-9920-4CC3-8290-C6C17E8E7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E04E-20A3-4F85-92E0-DE85F9604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5BC8-AFB1-448A-82CC-9224BDC28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23B5-3F33-4110-9606-1F29F1CBF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D203-748B-41B2-A805-82667CC9C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55F0-AF6C-46C1-9686-D9D234FE0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41FD-C985-4A3C-972C-59ABEFEAF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6C26-5B9A-4328-BFF4-E7AF58FFC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7F1C-252D-4EAC-A3AC-E1ED35245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A7F6-E765-47E9-AC80-AD2E7D813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CD88-3BF5-435C-BDFD-C515795D7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8C4A3-2BE5-4794-B4D9-27F50FF4B2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La clase de espan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676520" y="59817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By: Na’shyia &amp; Lesli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143000" y="1600200"/>
            <a:ext cx="71629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Los Pasatiemp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 gusta jugar basketba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 papa juega basketba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 gusta eschucar mus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 mama no le gus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952880" y="990720"/>
            <a:ext cx="2895840" cy="2851200"/>
          </a:xfrm>
          <a:prstGeom prst="rect">
            <a:avLst/>
          </a:prstGeom>
          <a:ln w="0">
            <a:noFill/>
          </a:ln>
        </p:spPr>
      </p:pic>
      <p:grpSp>
        <p:nvGrpSpPr>
          <p:cNvPr id="47" name=""/>
          <p:cNvGrpSpPr/>
          <p:nvPr/>
        </p:nvGrpSpPr>
        <p:grpSpPr>
          <a:xfrm>
            <a:off x="5638680" y="4038480"/>
            <a:ext cx="2762280" cy="2467080"/>
            <a:chOff x="5638680" y="4038480"/>
            <a:chExt cx="2762280" cy="2467080"/>
          </a:xfrm>
        </p:grpSpPr>
        <p:sp>
          <p:nvSpPr>
            <p:cNvPr id="48" name="Film"/>
            <p:cNvSpPr/>
            <p:nvPr/>
          </p:nvSpPr>
          <p:spPr>
            <a:xfrm>
              <a:off x="5638680" y="4667040"/>
              <a:ext cx="1152360" cy="1838520"/>
            </a:xfrm>
            <a:prstGeom prst="pi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Sound"/>
            <p:cNvSpPr/>
            <p:nvPr/>
          </p:nvSpPr>
          <p:spPr>
            <a:xfrm>
              <a:off x="6305400" y="4038480"/>
              <a:ext cx="1600200" cy="1219320"/>
            </a:xfrm>
            <a:prstGeom prst="pi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Photo"/>
            <p:cNvSpPr/>
            <p:nvPr/>
          </p:nvSpPr>
          <p:spPr>
            <a:xfrm>
              <a:off x="6914880" y="4762440"/>
              <a:ext cx="1486080" cy="1104840"/>
            </a:xfrm>
            <a:prstGeom prst="pi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Music"/>
            <p:cNvSpPr/>
            <p:nvPr/>
          </p:nvSpPr>
          <p:spPr>
            <a:xfrm>
              <a:off x="7086600" y="5410080"/>
              <a:ext cx="1218960" cy="1066680"/>
            </a:xfrm>
            <a:prstGeom prst="pi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La capit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shington D.C es el capital de Estados Soni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leigh es la capital de Norte de Caroli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724280" y="1295280"/>
            <a:ext cx="40640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Los Col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 color es Amarill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 color faborito es azul es muy boni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648320" y="1295280"/>
            <a:ext cx="427356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El tiempo que 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27432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e mucho cal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 qusta er a la playa en este tiemp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495680" y="1523880"/>
            <a:ext cx="4343400" cy="46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6T18:25:09Z</dcterms:created>
  <dc:creator>WSFCS Workstation</dc:creator>
  <dc:description/>
  <dc:language>en-US</dc:language>
  <cp:lastModifiedBy>WSFCS Workstation</cp:lastModifiedBy>
  <dcterms:modified xsi:type="dcterms:W3CDTF">2010-04-26T18:56:12Z</dcterms:modified>
  <cp:revision>3</cp:revision>
  <dc:subject/>
  <dc:title>La clase de espanol</dc:title>
</cp:coreProperties>
</file>